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251E-0A52-4AB3-A0F4-7FF0C3C3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9F4F-8894-4738-BA79-0DFDD87E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230B-9A8D-4900-9AD4-8BDE2F34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BB96-48F4-4B16-9523-4EF53F99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B1CC-02C3-4A8D-BF95-66F801A8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350F-559F-48C8-BE6B-C4CE3F29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7C6D-65B0-435A-8E62-F3E09CAB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5EE3-CCDB-463F-8F8B-84921BB5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3E2E-E152-4A8F-AED8-03690F88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F31D-6E62-4CB9-89FA-2B85E56B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EE8C-F4EC-4F2F-989E-E97E213B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C9AD-6087-446D-84A0-A3EDEA4E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BA2E-42F0-48CC-87B7-832C866D0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a50021"/>
                </a:solidFill>
                <a:latin typeface="Verdana"/>
              </a:rPr>
              <a:t>Francophones</a:t>
            </a:r>
            <a:r>
              <a:rPr b="0" lang="es-ES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5400" spc="-1" strike="noStrike">
                <a:solidFill>
                  <a:srgbClr val="990033"/>
                </a:solidFill>
                <a:latin typeface="Verdana"/>
              </a:rPr>
              <a:t>célèbr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401004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Qui est-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58920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C’est Céline D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s’appelle Céline D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est née à Charlemagne, au Québec (Canad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est chant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chante en anglais et en franç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716360" y="1628640"/>
            <a:ext cx="38228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Tu connais ce dessinateur?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84360" y="184464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C’est Z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l s’appelle Philippe Chapp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n pseudonyme est Z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l est né à Genève, en  Sui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’est le créateur de Tite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71640" y="242100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l est mort… Tu le conna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0892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C’est Gustave Eiff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l s’appelle Gustave Eiff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l est ingéni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l est né à Dijon, en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l a construit la Tour Eiffel pour l’Exposition Universelle de 188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our Eiffel est le monument le plus visité au mo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429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Qui est-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843280" y="1600200"/>
            <a:ext cx="3529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C’est Éric Abid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3456000" cy="4454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l s’appelle Éric Abid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l est joueur de football dans le F.C. Barcel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n poste est latéral-gau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l est né en France, mais il est d’origine martiniqua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’est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49528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Gérard Depardi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l s’appelle Gérard Depardi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l est ac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l est frança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’est l’acteur français le mieux pay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l a été “Cyran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 Bergerac” et “Obél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211640" y="2133720"/>
            <a:ext cx="452124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Qui est-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32000" y="1557360"/>
            <a:ext cx="2924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C’est Carla Bru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s'appelle Carla Br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'est la femme de Nicolas Sarko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a été top model et chant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est née en Italie, mais elle habite à Paris, e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87280" y="1557360"/>
            <a:ext cx="2924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C’est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3810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C’est Audrey Taut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s'appelle Audrey Taut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est frança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est actr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le a fait des films comme "Le fabuleux destin d'Amélie Poulain, "L'auberge espagnole" ou "Coco avant Chanel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88000" y="2060640"/>
            <a:ext cx="3809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u le conna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914560" y="1484280"/>
            <a:ext cx="3168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C’est Tony Par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l s'appelle Tony Park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on surnom est TP (tip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l est joueur de basket professionnel franç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l est né à Brugge, en Belg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on équipe est San Antonio, de la N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28576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Qui est-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434844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l s’appelle Omar 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l est ac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l est né à Trappes, près de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l est d’origine sénégala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’est l’un des protagonistes du film “Intouchabl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324000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4:40:24Z</dcterms:created>
  <dc:creator>nombre</dc:creator>
  <dc:description/>
  <dc:language>en-US</dc:language>
  <cp:lastModifiedBy>nombre</cp:lastModifiedBy>
  <dcterms:modified xsi:type="dcterms:W3CDTF">2012-11-13T06:09:51Z</dcterms:modified>
  <cp:revision>5</cp:revision>
  <dc:subject/>
  <dc:title>Qui est-ce?</dc:title>
</cp:coreProperties>
</file>